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809-16BA-42FD-88B7-4B300EAA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469-4008-4A22-804D-32234048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1CD39-1740-4ACA-AF86-8D3EF9D9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9F009-A1FF-4510-A442-8AA5AB37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BBAF4-2EE0-4C55-B79A-B0D229A9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70B79-F02C-44DC-BEC6-1E1099C7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D646A-9D6C-4BB8-A3E8-87D374B8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CAC24-538C-442B-A1E4-B34BAB8F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BB2DE-CF49-461F-A1A5-B997F97B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1EF98-1725-4E58-A986-C31DEB70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649D2-A1F6-4465-AA46-1343815C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42645-A2EA-4256-A545-A4F09F2F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817-B008-432E-944D-A3E760C8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D23D8-D388-4DCB-9139-1B4E5C5C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82C86-3C1B-4691-8512-B170494D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9FD54-2A78-4533-BB4F-B63326E0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F41EE-032D-4215-B92A-EA46FD9E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30FB4-E996-4E22-B631-7FE171DB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9662E-BD64-474F-B145-712B917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D7572-FCD6-47B8-A747-1BBF15E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10E6A-E0DA-4AEA-A1A7-87E18840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FF432-E5AA-4F7F-89B1-67B1AE56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15C7E-D7B5-465C-B2F7-9B7F143C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CBF-3B5D-4D1C-9E92-EEC49F35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259EA-4259-4D94-AF24-085E1595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F1447-93D7-4C1E-B490-6762F688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FF52A-12F6-4D07-8CE3-892F6562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D2445-9F25-41FD-8215-DFDBAC28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37BAE-3091-4B18-9D1E-82BD88E5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1E625-5351-442B-9AA7-04BD3C3E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8ECE1-1985-427E-8B8A-EFEAFE29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B4936-5520-49E4-B0F5-C11A9F54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CB0B8-3AF1-456B-946E-829A2C05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DC1E1-0125-43AF-9033-7B8C547F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6173-DCC6-44CA-91F7-1FF36051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E219D-C43A-4227-81E3-A1E2A238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017A9-3504-4C00-899B-EF75F7F3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7AC4D-CCA2-4D79-9F21-AAEAB7F4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22154-AEBF-4F7E-A725-B5880695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17357-9ADB-4A59-8180-B5863961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39CA5-5762-4189-AAC2-50728178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27237-601F-4491-A801-703EC6D6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364D9-3966-4A3C-9C9B-36EA00F0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DC843-3869-4841-AAB4-E7DC3648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01C40-2181-40C1-B659-A545711C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E7B3-614E-4188-A247-BE4B07B1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BCA7B-FB40-49C7-B903-4E8791A5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7080D-D19F-45FF-B753-65C36A3A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E19E3-96FE-44DD-B792-D29887D8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0F923-7D35-4EF8-8EE7-E8D83FCB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7510F-21F1-491D-846E-F2DF24FD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EF9BF-94B5-44F8-B548-31B1E1BA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30AEC-F36C-4013-BAF1-A89146C7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93FBE-0AB4-46AE-9F42-460F5035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C8EB5-35AC-453D-A6C5-3645008E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074BD-2D14-4A41-8C36-41EDE5F7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5549-B81D-4BCD-AF83-B8BBE906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58F63-9020-488C-8AB7-41186BD0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E4D1B-2523-4A05-AE01-476AAD9D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FBBA5-0040-490C-8A42-C819DAEE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5893B-823B-4851-BD12-71E53E50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67E95-74D5-4F52-8524-7CEE3A91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425ED-D6FC-46E7-91B5-D0761D26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80DE5-B041-4459-A502-ECE22B12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BFE2C-64D5-4D7C-927A-6063B617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89467-C9BE-4737-84F9-B4B3A7AE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10E93-89A2-4E3D-8836-8BD3C41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E85C-2E00-4AA3-AB92-BDCAB7FE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8A2AC-960C-48A5-BA4F-153A1EDE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2E870-0548-4887-B72A-BB8ADEBC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D414B-55AD-4922-9532-BD43FAB6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C37D12-CDA4-46D5-B74A-9038C16F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22F68-7B11-4F51-B48E-9AF8F10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25DE7-348D-4FA8-9DCA-AB700593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62C47-A425-43EE-9E11-BABBA7FC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AF3F8-CB2E-4704-B641-5FF9040F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E5D7D-229F-433E-8F68-55003E24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60620-BC75-4677-9DDA-90EC60ED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0FA9-B1EC-49E6-8ED5-75344E45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89F54-652E-4DCD-AD47-C608ACAF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74488-E366-4200-82D2-1EA0F30C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DF320-B1F8-475B-9628-B6D29AA9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A5F97-23E2-413E-8587-34FF0D75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5F349-C9E6-4E32-87EC-0D644597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7FE0E-AAA5-4F56-B11D-400699E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FF38C-B8B6-4BEE-AF9A-C4DFD98E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19FA2-4274-4C0C-9102-94C6F2C3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E9615-EF4D-47AC-A22D-2AC4024F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07361-4B7B-478E-ABA0-818F6242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DFB1-D3C0-404C-853F-682042DA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77D25C-FF30-4A96-B131-474A4AC5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96E932-8DF7-49D6-A5D2-4569D737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E0A15-0FBD-484B-B341-751DE6F3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FC243-4248-4573-BACD-8DBB5A68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CE3EF-A5F4-48D0-BC74-5CE35C90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9A26F-123A-49BF-B067-D1E1369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6E745-143B-4680-A4E6-92D3A3A7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10F9C5-4012-4872-BEC1-42F5ABC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C358F-2F06-458C-ABCC-2D19AD9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937DB-969A-429F-A10C-F9F9D844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CB22-C53F-4F1D-B6EF-7759F31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C6207E-F114-40EB-9406-882911B3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607C0-1F80-48DC-ACE4-0D29C495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13FAA-B4F2-458C-B460-F9804996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EA647-7CCB-4455-ADFA-A2D0C8F6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72768-E16E-46F5-810F-33DFDCEA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94340-092F-4ABB-B176-8DD4AF69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9E8A99-9619-44F0-87E0-A3719442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1C017-FB59-4080-B058-ED247557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0996B2-FD6A-46CD-B80F-E52E209C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1C1A1-5297-4807-86DA-979594CD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6FA-68D2-4E57-99EF-D0565134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26E4-7137-4228-AE55-3CC0131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0FB92-DAB5-4994-B089-F70155FA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30AF6-86B9-4287-94A4-131DDE9F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C66014-6BB0-47EB-9977-6615893D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57027-4360-4F05-837B-D4B71837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49ABA-B626-4355-BEC8-FBC9C24C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42711-F1DB-48CE-A0F9-6DBFBFBB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F0FAA-C921-4E3B-AD77-67B7B011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01492F-0A0D-4953-9E84-A6A661EE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4304BF-320B-40FE-8775-99B3D9A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49B8B3-9220-40D6-9188-ABABE6D1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ADC3-DCA7-445C-BB4C-8DFCC9A0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E6D66-C580-4253-9FC8-D8A8E002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7124A7-63EF-4C1B-BE34-92F19BDF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CFA542-20D6-4C3A-91A0-D10702C4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32E0A-2098-4D2F-9293-DDCEEC4B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E5B2D0-8376-4208-A0C5-277D5424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0442C-6EBC-4872-B6BA-6C08B062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B42AFD-7C1E-4287-A50F-414224D5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90B266-F528-4DF7-ACA0-1DC7A1BF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A61BDA-F692-46A4-9502-45CC5645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B58CA-6C25-407C-8DDC-0D73C04D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9881-F651-4849-A522-D6E22C81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2B50C-040B-43FB-96E3-AF66DE04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E09C0-8FB5-4724-A0AE-B0757A39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72BEBE-6340-441E-9BBD-B00055B4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6A956B-BCA5-4406-906D-280DAE0A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F6890-E8B4-4E97-BE93-09AC9183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A132A0-7905-4377-962E-D902654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6AC38F-4750-46B1-8A47-907D1F20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CEAB6-8EC1-4B15-8FB0-347A0DA1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66F1D-D6B3-4425-AA37-FA8E4389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D34DF-1B68-4A7A-949A-94240523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1BCB-6882-4A85-B191-179F1273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38C85-1C57-46FB-A1CB-8861466A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CE317-293C-40B4-B578-EE3E38EF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D4F7EE-15EE-4E70-A5EE-325DC6E1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77DE0-6DEE-46F8-891C-574B3532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B3F3A9-EB8D-4B7D-ADA8-6911D1F6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7E02B-8206-43CC-B86C-2B06EE64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448F83-E748-4912-BF05-A241E994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32E68F-5D1E-4BF5-A21D-D897D48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062259-89B1-4448-95A1-FEE30362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AADAC4-CD23-431B-BBE2-6C750E9B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FE52-447B-4806-A859-21EA5831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BF46B-4672-4583-87DD-A9B436A1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F2083-4F69-4866-BD59-64377EAD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58E69-1979-4CD1-8231-2C16B567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CE8946-0EA6-45CD-A3C3-56EF96B1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ABDFC-0676-417B-A8BB-D093F3CB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97E2AC-4E73-4D5D-A590-DA792B31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B7949-8748-4541-B256-B2DE4221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484A0-6B67-44C2-8883-9B3BBFD8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6C5FD5-11D4-40D1-BB5A-CB15A237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89BC77-7D64-491F-A7B7-457F7615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F636-629D-4363-ACFD-1E13D5F2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9AAE34-A4A7-4C27-9265-E0467D68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103D24-AC31-4821-9243-11715528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D64AC5-AD7C-488D-B7A0-38A8D392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F75BA-D9AB-4AD2-BA9E-A52BBE2F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4029-49F3-41EB-B65B-F9FE61CB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4F20-E2B5-4144-B648-04BB2DF3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7AFB0-D51B-4E51-AA3F-E4A904E9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6E0-B82E-434C-8C35-EB915575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7458-F587-4235-A9C5-9F26DCCF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A7E1-4A25-4C86-B6A6-5C15111C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5ED8-64C8-4F7C-83EC-CA4143AB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B988-1769-4391-BF81-7406F47E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2CA5-2610-418E-9F93-875AC11F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7523-BAB1-4C9B-BA24-F0208C69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600D-A144-4ECB-B574-BF98E915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9BF7-5271-4E68-AD96-BF1ABFAF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AF0C8-F187-4CD4-81A4-ACA3E051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7986D-47F3-469F-B0AF-8DDFB020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18F-07DA-46A5-B0D5-282FEE28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6141-F209-4838-99BA-8BDF3628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8A3FE-E9A1-4819-8C8C-8D11475B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D19E-8253-4A05-A7F5-4A5D9D52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F9DD0-2C0F-42EB-B3A1-7CDF6293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424D-5067-4416-A1AC-4827659B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DBFD-F950-4BDA-A5E7-A9ECE93A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DF51-2176-43DF-8969-30DAC4E1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E4EDE-E76E-4A8E-B5E6-139A43A9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1ED0-10C1-423A-849A-B1B1228A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4055-C542-45FC-9FBF-40FDAFD1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BAE-43FE-43D9-BA40-D5F9612B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96576-30C4-4DCD-9DBC-5CECD5D0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41A3F-07F8-429E-A490-5A77EEE9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481FF-7BD5-4EAC-B142-529D1184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5064B-0E24-4C08-B5FE-283227F6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251FB-2E97-40D3-8FAA-69B4938F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DE655-D0BC-4B6D-B28B-AC4AC9DA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F92CA-015B-406C-886D-FB36EF30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203C2-FCE0-45C8-99B8-12C9C7B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455FC-DA01-4E3B-8293-9C75D718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0737B-264B-42A9-B81C-BFAF9803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ACB-3E6A-4142-9CCF-8DD2FA94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9024-40EF-4E2F-A461-61E417F8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5BE6-4C8D-4262-BFE6-22F38638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95119-161B-4298-B1AF-455E560D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FA340-67B1-49B0-8809-0E6DA97B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1A58-166C-4638-82ED-CA27B3D4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7D40F-C7F7-411E-8D87-8F13E856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92F0F-FD21-4C8B-B01E-1A4E0BCA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3A713-5ECC-4C0D-B950-FACEB23D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CB8C8-427A-423B-A1D6-99DBEB8A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BC468-DF91-43D6-AC8B-F9AFC908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A59-16EE-426B-879A-2A6FEB2F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2844B-3E27-4383-906A-8A065088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A6848-8ABA-4D19-BEDB-A698AAAC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4C9D7-6696-4AB1-9BFC-D93ECFD5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24C87-0CB9-4DD3-9C78-7FF28AF8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C1C9A-3528-4D7C-B827-C8C1F246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6488F-B327-4334-B9B1-362C9425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A59A5-3512-46F6-90A2-E821D02B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87FE0-A9B3-4F27-AC36-0E5F6898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B572-8527-4CB1-BA01-F17DD9BE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7DC3F-2C55-4C81-B7A3-5193C0DF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53C-516B-42B4-85F7-486F5EA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B83EE-4B6E-41CD-AAEA-431366D5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6BB63-2983-45A4-B40C-94E1EA2B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C52AF-AC48-4E78-A6F1-A766E342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C6105-5D5D-4602-96B6-D5D6FAD6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E2953-3963-477E-B83C-D7A66408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30597-3689-4538-BCA2-6EF3C006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6B97B-6691-42A8-982C-F4C698D6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78EC5-89DD-490B-A2EA-A496BC82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5351E-670F-4B0C-8BA6-BF0DE54E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13D31-477F-40F0-8B9D-72FCAE0B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4A7-1AD0-4D3E-92FE-28D2C19D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2D8A2-F571-42B1-AE76-B440C7E1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FB25E-78CC-492F-8BD1-3C2EC0F8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EF5AD-9FB9-4431-A589-60752307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E56A6-D851-44B0-8223-735FB051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5049F-0869-4E78-B20D-2BCF93DD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F8495-FB55-430F-B25B-0DBFE359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73BE2-5694-4B89-A52B-32A35E19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D1B40-9AC9-4214-8455-A69880F7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37431-5B8E-452A-98B0-69566C63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451A3-F24E-4A8A-A6D5-F648E877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FEA8-524E-4D4E-A32A-03474E9D3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0DF0-264D-42B9-A942-8995AAE71F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0E3A-94B0-4D02-80A8-FDAFDF3714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48D3-76FB-4D71-B031-AF9A0C903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A71A-5CC8-41AA-8BCA-BF97ACB73F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CE28-2D31-456C-892B-63EB206476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17ED-94CE-495B-B5D5-1DF6D9E420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A7C4-4799-42EE-AD96-1C86033D78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811C-7A81-4BCF-A708-B7F3153D7A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1850-BA08-4FD8-95CE-ABEEBB2858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5BE5-BC4A-418E-B7F1-AAED162AF6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BCD9-952E-443C-89FC-201956D1E2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045A-B65C-482F-91C8-4CDE4967B3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91B7-16B5-4EDC-867C-4861537F7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5900-D062-41EE-B59E-95C388B0C9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ADCC-9FD5-43B9-9745-850159D97C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A7CE-5A29-45F5-B361-3FED7A0812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A8A6-3E02-4074-AB3C-800E18294F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85A4-5749-47B8-B9C5-D39424DB3D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0BD9-4C31-4625-A196-F6D1441DDB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0FDF-1935-4F63-AEB3-871A4D3CE0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4F2D-FA12-4803-AAFB-B1775C9DDC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6BA0-F296-4F15-AC46-489BC487FE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3062-DB2B-4D39-94B4-8BEC1A2B5D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87F7-75F0-44F2-A0C6-D6FEECE2A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ECF4-B018-4484-A669-2CD594D8CC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A283-EE44-433B-8B81-248E250EFA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431C-F00B-4454-ABC3-9AFD8BFC3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FF0D-346B-4FF6-B8B0-275BDE2F2B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7945-1EB1-4C2F-BB36-79222E06B2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33EE-F229-4359-AB09-93D93E6868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79DD-FD0C-40C1-AC71-A11BA46EF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5170-B52E-4258-A12C-149DD193FE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B7B4-B120-4ABD-A88C-E56C4F5B93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AA1F-5ABB-4FA6-AF91-20557916AA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6A5C-7FE9-4B2C-B99E-56CDF93D4D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6BE0-66B5-4FAB-8AB4-D746D03B94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5F23-A26A-4EAA-B2A7-EA1E39108C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489C-BA56-4B4B-8A5A-C41C1AC82B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EB38-72C0-4109-882B-4E86796C54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00160" y="3157560"/>
            <a:ext cx="8743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7" name="组合 4099"/>
          <p:cNvGrpSpPr/>
          <p:nvPr/>
        </p:nvGrpSpPr>
        <p:grpSpPr>
          <a:xfrm>
            <a:off x="114480" y="1285920"/>
            <a:ext cx="8915400" cy="4286160"/>
            <a:chOff x="114480" y="1285920"/>
            <a:chExt cx="8915400" cy="4286160"/>
          </a:xfrm>
        </p:grpSpPr>
        <p:pic>
          <p:nvPicPr>
            <p:cNvPr id="1028" name="图片 1" descr=""/>
            <p:cNvPicPr/>
            <p:nvPr/>
          </p:nvPicPr>
          <p:blipFill>
            <a:blip r:embed="rId1"/>
            <a:stretch/>
          </p:blipFill>
          <p:spPr>
            <a:xfrm>
              <a:off x="114480" y="1285920"/>
              <a:ext cx="891540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1" descr=""/>
            <p:cNvPicPr/>
            <p:nvPr/>
          </p:nvPicPr>
          <p:blipFill>
            <a:blip r:embed="rId2"/>
            <a:stretch/>
          </p:blipFill>
          <p:spPr>
            <a:xfrm>
              <a:off x="1403280" y="3328920"/>
              <a:ext cx="7201080" cy="17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0" name="直接连接符 4100"/>
          <p:cNvSpPr/>
          <p:nvPr/>
        </p:nvSpPr>
        <p:spPr>
          <a:xfrm>
            <a:off x="2195640" y="3284640"/>
            <a:ext cx="1152360" cy="1873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4101"/>
          <p:cNvSpPr/>
          <p:nvPr/>
        </p:nvSpPr>
        <p:spPr>
          <a:xfrm flipH="1">
            <a:off x="1547640" y="3343320"/>
            <a:ext cx="2448000" cy="18860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4102"/>
          <p:cNvSpPr/>
          <p:nvPr/>
        </p:nvSpPr>
        <p:spPr>
          <a:xfrm>
            <a:off x="6227640" y="3298680"/>
            <a:ext cx="1152720" cy="1873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3"/>
          <p:cNvSpPr/>
          <p:nvPr/>
        </p:nvSpPr>
        <p:spPr>
          <a:xfrm flipH="1">
            <a:off x="5363640" y="3313080"/>
            <a:ext cx="2808360" cy="1844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247680" y="641520"/>
            <a:ext cx="8648640" cy="6153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303200" y="14414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258920" y="2852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332000" y="4235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332000" y="5661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295200" y="812880"/>
            <a:ext cx="8553600" cy="6000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258920" y="3500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5651640" y="3500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187280" y="5300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5651640" y="53150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22:01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